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832-D2A0-41E6-AA0F-2DBA3115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F645-CC95-4E88-B3BD-449A28BD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881-0826-4A5F-A7CC-9FAE0F20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9ED4-CA3B-4CCC-9FB2-103362A6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4CB4-DF3B-4304-A797-F734483A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EDD-13D7-4517-A245-AB42440F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8EAD-008D-4E7A-ADC7-DA0C24CA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B51-1221-4AB4-B1DD-8E2FCCAB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CEF-B5F0-4C5C-A330-D79F1E32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2B6-1720-4F3A-A5F8-D03A50F3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BF3-EE3B-41E0-9BCA-1C1EE147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D53E-0DC3-425F-9797-064623A7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23CA-1C18-46AC-89EC-487D7723C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7:25:11Z</dcterms:created>
  <dc:creator>Grupo Editorial</dc:creator>
  <dc:description/>
  <dc:language>en-US</dc:language>
  <cp:lastModifiedBy>Grupo Editorial</cp:lastModifiedBy>
  <dcterms:modified xsi:type="dcterms:W3CDTF">2001-11-15T17:27:36Z</dcterms:modified>
  <cp:revision>1</cp:revision>
  <dc:subject/>
  <dc:title>Sin título de diapositiva</dc:title>
</cp:coreProperties>
</file>